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A19-878C-41E5-A52B-32F08ACB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03B0-BF92-47BC-BB7F-EE9CE276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FB3B9-0D51-4B6B-AD70-087F2866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8D27B-B2BE-4DCF-A124-577F18ED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44BFA-1F43-44DB-AC19-75AD6A55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30719-5211-4FCA-A362-ACF8808D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A7A38-AD96-41B2-89E5-69D601BF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CCB0B-6941-4817-9F31-946DAB9E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4BC57-F206-4C70-8274-F6ACE16D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6FC9E-7A0B-4B0B-98C6-95752618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EA66E-6E4D-49ED-B03B-D60A8C4F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F0651-3F63-4E18-A23E-800EDA82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8DA-7267-4E95-83B5-AF4B520B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BBE81-F90D-4268-93B0-6FE4C808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C33FC-41A3-4159-B3F3-30CE5BFE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AFCDF-B4F4-4B3C-97FE-B76070BF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51539-3988-4E23-9CCF-8964BEC9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E1748-6FDB-4A00-9FFC-E982DA26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2C394-BDC1-46A4-8079-53414CCE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2D5C8-566D-4E1C-B191-D0A80AA6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C34B9-A75E-4A28-8768-69057778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1BE1E-1CF6-46B1-ACF9-984A6E22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CC96A-4FF8-4A74-814B-3462729C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186-E9BF-40FB-8392-7347FF6C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22EFA-B72B-44F1-9BE8-9247AE0F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2E556-611D-4CFA-BF83-705CF972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9A082-2873-4052-998B-99252AD3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6BABC-BF05-402B-BF49-0D3AAC36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23C87-4AC6-4D28-ADB4-B19B0EA6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FA034-6935-47A9-91F0-2A00B94C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EDE73-F98D-46E5-8458-D44552C4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4747B-E4E0-4D45-93C3-6F672038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BD6B2-6005-4D48-9003-2542F1DD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0238D-E29E-4925-9B6C-701AF67D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0A43-95C5-4B8A-84ED-B7644EFB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59228-6E47-4CE8-8A4A-B64D4263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6A9D6-74C4-45F7-A5C4-52095F8A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C64B5-9F52-4DAB-98B6-0F2FF1FB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3AB15-429E-401B-AE86-CD973671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D34E4-740B-4774-BD6E-1F0D87EB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87657-CDD7-4C8A-915E-32560EC4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1434F-96A0-4108-96A8-1D563108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9D4F8-7BE7-447C-BF43-EC379E34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48768-139C-4072-B40B-42EFC7F2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5B385-56F7-4A03-98C5-4AFB835C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F347-6ACF-4EA9-B9AE-A2CE448D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96B55-383F-4CE7-ADDF-835C38D5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6FFB8-759E-4154-A5E0-B2FB4E3E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28882-089C-4325-A508-5B384EA6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F4ABE-A537-44B8-814E-BA6744E6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CFF4C-143E-4C98-802F-A970004E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27E49-A506-4BAD-ADD6-6FAF9A6F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640E7C-8885-468A-A10A-2EEB29DA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056A8-1CDD-4C76-802C-6088CD71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65C81-0059-41D2-A729-99774B23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18036-1C65-4985-92BA-C6958807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79FC-DD72-46CE-916E-B6CD64D6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80F75-B263-46D4-B953-C8C65AC2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A4A1D-8384-49DB-8639-812722D9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DF760-C259-4845-8D7D-22BA224C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849C1-F7ED-422C-A700-72EF6C7A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8B280-4CD5-478D-A244-D32BAAD4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92442-80B3-4C95-9A10-2F489FB4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924A7-EB8B-4B11-B773-D348270C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5623F-7D8D-479C-93CC-7794FF14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2F1DD-370B-45D6-B2E8-3640D147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64E2C-1226-4406-B18A-36EF1CDF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4CC5-5617-4308-B04E-9689D236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3AF8D-3BD8-4FFD-B697-7CD29E77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B9921-64D7-4C00-8D94-62934B52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0519A3-BE08-41B3-A232-8235A90B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4D45C-5EC6-4247-B246-B179CDAF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91C4CF-3E82-4DDE-A71C-58514976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353C3B-3244-4D5B-B63D-A7C510B6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FB2F1-009B-466A-AB3D-8746DBE1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6B4430-752A-424C-9065-AE6399F6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BC1720-F7FF-45C6-97B1-193B25BC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882A69-BBC4-4D44-B514-F5A13FFE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63F6-8251-43C6-A590-F03B479A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0CA820-E624-4680-8AAC-2088B7AE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9A4C7A-D1BE-4AE6-841E-8D475277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E34CF-B118-4CFE-B7E0-9F97E71B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E5132-EFDE-4C72-B746-CBC2A0A5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860B06-15DD-4C34-948F-CB2A87D4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8D53B3-B8E9-4E1D-B6FD-128ABFCA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CAE54F-A63E-4C21-8970-3EA8CD77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43474E-884B-4D46-AD76-C176C667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C1021F-FA9A-4A70-8843-397053E0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17ACFA-1D24-47CF-9C76-AC9D166D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B289-A224-4E52-9B3B-D7A6FC07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EABFE8-1FBF-4ED0-9BF2-615F29D0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BC025E-AD8B-42E6-B1EB-C2546840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B00612-58F8-4F9B-A37F-70BB83D9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9BFAD1-FA0B-4EE5-A58C-54CF11A7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1E4C90-29CF-42C6-8098-B4815B1F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DE7AF0-7354-47CE-8ED8-A14F4EB9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F41C64-3435-44AF-A4E1-24BFF215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990CF-0F41-4BA9-AFBB-F61F4608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AAABA6-C2B3-404F-9A13-7BB4F85E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557E37-56C6-44A2-9A7F-0B02DB49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89E3-7F0E-4CCD-BE40-8CAFEF84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F5D632-BAF4-4A38-970C-6BEBCD9C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A306B9-323E-44DA-B7AF-53994678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4C298-9EA6-48DB-A3D9-55C6D7E4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1B6574-1846-4953-A6F7-16E66092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239F28-DDE4-4442-B140-309CC3FF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0C129-D3C6-4D65-8BEB-2001527D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832585-D5A4-46BD-B988-D1B88A7C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35D35-07A5-4EF1-B3E6-4B16B77B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5055E1-90D8-47E2-8847-B9331D6C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C24C56-6F94-418B-BE02-56E087A2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59DA-B0DD-4D33-870E-333B56DE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2280-EEE7-486B-948C-51B65D4A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2A21CB-739D-4AA4-8B9D-DD2E0B32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2EA35-F8A2-415F-A0C7-1EC11FFB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5EA103-4685-424F-874C-44875D71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46AB9F-E06C-4398-A60B-0F2CFDA7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BE9B22-F630-432C-B91D-307F1F8A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BECA73-300A-493C-B59E-02799AA7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A567CD-53A9-40F7-B30A-E5FBB90E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F52A88-0734-4F83-BF96-559D77BF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E4CE19-4867-4C8E-BD0C-261EAD58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333BF1-8082-4F66-80E9-5180EE9F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53DD-2D0A-426D-935D-850254AC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A0E4BD-DF76-4FAD-9B37-CE777F30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7916E8-9FEC-47C7-BF14-547D6D7B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25AA35-4D62-407E-A26D-89CE7646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F60797-275D-47CD-9415-8F7840BF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D289FA-5F6F-428B-B0AE-9558B160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98D46-4164-4529-B8C7-B0CD682E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BB525D-683B-4BDE-9940-F2ED5A49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0D17BE-34DB-4796-89A5-E2212911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62690B-36ED-4B20-9715-2A95167A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6D3863-2281-48F0-A200-9418DA9A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5DDB-D176-460B-A4D6-71070D65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37335A-4EAF-48B4-805D-AA7AD9BB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9F2F0B-1170-4467-918D-9175A100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D0CFF0-54C0-43CB-BDE6-7C683BBC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27BCAD-58FD-4E72-B57B-EEFF5060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9AFC94-3D73-499E-8C9A-A48189F0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23705B-D6C7-4E33-AE5C-48500984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955756-A5DE-4ABE-83CE-3CC7FDED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384A89-8B76-41C2-B31C-FEAE2683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91BD55-89AE-46F4-AA1D-1B8E053E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CF6DEF-236B-4473-ABB5-085A33A5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9DB1-49AA-4E69-AAED-47D7B61D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5B2B63-C47D-4DAA-B865-254178C4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80FEAB-91AB-4587-82C8-8191CAB2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FF8982-3747-403B-A9EC-F81095FA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BB656E-01EE-421B-9B31-5C79A5C9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23548E-9B44-46BF-BD51-7B07CB97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9F1C07-463A-4D6A-B0B6-36763CE8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01A75F-1E95-4510-8FA8-38653C59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FE537C-DE8B-4D81-A6EC-AA03BA53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5519F4-519A-45C1-97A5-D20FAB0D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45D9F6-DAC9-442E-BE7D-0975A2D6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6322-0A2C-4EE9-89E5-D2D45579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B622E7-D144-4DC1-A112-0FE9076E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247F19-CAB8-471F-BAC1-96565093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55297E-DB23-44B3-9C7F-7AA283B0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65401B-524B-46C3-A0E3-11BA4F2A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C57D40-2C8B-4FBE-8C09-A7986FF4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1A552C-DA8A-4AD6-B460-88DDDE18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7E1052-5147-4294-BC1B-F72A320F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B15554-9B6E-4B95-ACEB-2DB1711B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978A74-0AFE-4EF9-9CE4-AA95D783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8304B2-DE7C-4AC1-9C9A-8E70A530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7B9F4-9699-4F92-B27C-19DC870A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7DA1D0-D742-4291-A66B-DEAC5DF5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7826F3-C009-44BC-BFBE-9639553B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97D452-A281-4B0A-B62E-DE7CC869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9BDC5-17ED-41FE-9059-134BBE50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54844-EA7A-44F8-A656-C179333A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7D27-9BDD-4ABA-8759-8A900C66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D0F56-7DC8-45DE-B1D4-F639DAB0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4DA-85C1-4E64-B62C-B1838F16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D58CB-D0A2-43F0-ABBC-A5AEC2B2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8E642-7CEC-43C4-9A1B-20C38D4B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A6C4C-436E-4D31-BC81-1D0F4AF3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82C26-D72D-4E8B-BE9C-68B53859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23947-5960-45B1-BCE0-C1959327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6C891-728C-4D0B-B521-222E8F29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6D3DC-F4D6-4EFF-A044-AFDE0371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08B08-B670-42C3-90EC-C390CC96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1C027-BA48-43FA-9C60-9BF032E9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7FBAB-CFDE-4B11-B856-1102BD1F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2239-CCD2-4BB3-BEC8-83382669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12DFE-A48F-4B2F-B823-13AF8807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56A37-FB98-4359-A831-D914F26B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0EE89-2A7C-43E6-BCF1-CBAB3C51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F9791-91F7-411D-8F62-A5D3F938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572AE-0C12-4A3F-8D09-8D82A68D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C828D-59A7-48DA-AD9C-00409F08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BD31A-4087-4CBE-B3AD-A777281F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1917C-D8E5-4D03-B59C-7284983C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E0453-ABCD-4907-BC81-C0ADA9EE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70412-8DC9-49A4-A9FF-198B0FED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F18-2568-48CA-B881-95662FB2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D7C0D-AC6C-4FD7-A116-EEA59D5E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9DD31-4BCC-4CCD-BEBD-D503A880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CDE26-C6CC-45BB-A61D-36DD3BD7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C3F61-28A3-4B28-B647-EF439444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B7BB7-3246-459C-A363-B8D689FA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3A755-459D-4E79-97D4-6BBE4BC5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45794-2F60-4EEF-91C3-63A495BC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5C2F7-5CBF-4E84-B43C-2B3A82F7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319D1-EABE-48FB-B293-EA7A4EFE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E5870-C403-4E0A-88F3-94E80989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4A43-446F-4C5F-8AC8-26421215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A1B21-D704-473C-B4ED-F5CA5416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32BC0-4D78-4FE5-8808-1D38807F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1164F-0EAE-4996-A511-A4E7508C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CA559-0F83-4B2A-BA15-C1A356DC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E79E0-45B9-4280-981B-894D87A2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0C8D8-6FE5-44FE-8B79-664DF478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C66F8-EC26-4CC6-B41A-1EB68EF4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05024-864D-438A-AB7F-58E24BF4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980B6-C833-497C-A380-9041844B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6ECE6-3A34-47A1-BB11-99790918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DA4C-AFB5-4782-9BEE-B330A4B0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564BB-A49E-49CF-8DEC-06587BDC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D414B-EE76-4936-96ED-A12D0A9A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163C9-0D25-4029-BD94-53AC843E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DA068-3F3E-43D6-BF6D-986477F6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49AB2-6730-4264-B618-ECBB001D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E3B73-2B8C-4329-AC80-6996A892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2F695-0E99-4285-9321-D28C0A4A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23A42-0DF5-4498-8AC4-B8D65D5F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7EFF3-26B6-4ED3-AC58-972BBF95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EF733-7221-401F-9158-A907AD75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6E8-B4BA-43AA-A1EA-830D9382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B01FE-6EF7-484E-8D92-00560327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925D4-3B55-4810-A325-14BEB390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B948A-4E2B-4CD4-8D3D-45D8951E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B79AE-A0EC-48A9-9883-DDF98578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BC643-564B-4C71-9DDC-384A0B13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B3FB8-CFA0-41D3-8AD0-ECA98E31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367C8-07EE-46A3-810D-EFAE6F2B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A5708-94DF-47F3-826E-C5AF2B53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D9C1B-4643-4ED5-8FCC-DB6A66BC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DE535-271B-4F37-B008-47DF4BCF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92F-8901-48AE-A980-104DEB00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9F85A-20D5-4A85-9F32-255755E5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D5DEA-E86F-48C3-BA0D-3378EFF2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5779A-E277-4F07-937F-7DDF6941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E0F56-2F75-4869-9437-79806050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59F0C-06A6-4962-BF44-51F175B3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2AE11-197B-4BE7-BEB2-A1489192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FF30F-2746-42CB-94BB-0008E6B5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A1114-BB98-441B-BC6C-E7B1CBEA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D8FF7-0D0B-49C0-B6C9-02E8FF57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46389-65EE-496A-BA1C-EC52A878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D7E3-FE72-4615-BA3A-D511418E6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A914-169B-4E11-9593-B2389BBF3D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A1CB-D996-495D-A2C5-5443777F51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714F-4A3B-44AE-AC8C-34C7F44F5F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8B50-E797-433B-A792-6B6A1623C2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56B3-5EEF-4825-B346-D1B27F3B5B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F0EF-9D25-44DA-90C8-DC6C712BB1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6DB3-3223-4350-89D9-220DBEACC8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B7B4-1E30-40FF-A50A-08FC232B39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03A3-6CAB-410F-B939-A3A01C9F57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A45B-373E-4C0F-8078-63670E4204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9879-BE4E-4AAD-A4AF-360ACC9EAF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65D3-6529-47A7-99B5-0712AE3D0C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675A-5F60-4D34-9115-4CBCE2D541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ECE4-CA0C-4386-AB3D-A94F8EF6E8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06E4-68E8-4F6C-84E7-EE8CD8CD65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03EC-BB62-4470-9094-EE5EADC8AF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D307-1E85-4FAC-A8B5-8773B857C4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EC76-5F1A-4046-A7ED-F3BF81032F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BDE2-1CBA-43EA-805D-EE152A45C7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70F9-EDA2-4E36-A8F3-481A93A232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43D7-FD0B-4958-BA97-78646FB30B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F214-B7A1-490B-BE80-6F39707E67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AE7E-8477-437F-95E7-3D914D11EE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7912-DFC2-4C59-B8E2-9C3DCD19F0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A744-A9E5-4EF3-B2ED-4CDBE58187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812E-ADF4-4BDD-A680-57BD654451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1214-A16A-4ECB-95E6-9CA741A57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473B-DD15-47A7-A246-FDEC073BA9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2AC2-CFCA-48A3-AAEE-C53B12DCFE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27AD-9DC9-4B38-91FF-9EFB2AACAA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3F8D-E303-482B-84D6-98654366A0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4BF5-8E2B-4C9D-9FAE-1A471C4F7B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78B3-6BFA-4F65-8681-B304DE4165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79C9-D4C2-43AF-9AA8-BEAE149886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B492-78D9-43B4-8661-596F00727B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DB72-12ED-4C30-B6CF-76B31EFEB4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6849-85A7-4E50-A2BA-D92DCC4CA8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57FC-DE2A-4113-A2F0-977CCB05F5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8593-4B6A-4A73-A6D7-7DB8B24643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33480" y="3100320"/>
            <a:ext cx="907560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14480" y="1504800"/>
            <a:ext cx="8915400" cy="3848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16000" y="3213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376200" y="2048040"/>
            <a:ext cx="8389800" cy="27619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654120" y="2060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684360" y="37162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71360" y="2066760"/>
            <a:ext cx="8801280" cy="2724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1116000" y="26082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1116000" y="31701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1116000" y="37609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1116000" y="43070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233280" y="1762200"/>
            <a:ext cx="8675640" cy="33336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114560" y="23320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1187280" y="29242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1187280" y="40194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1116000" y="4581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285840" y="1371600"/>
            <a:ext cx="8572320" cy="41148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2124000" y="3587760"/>
            <a:ext cx="505080" cy="3762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6084720" y="4811760"/>
            <a:ext cx="50508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4:05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